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</p:sldMasterIdLst>
  <p:sldIdLst>
    <p:sldId id="256" r:id="rId25"/>
    <p:sldId id="257" r:id="rId26"/>
    <p:sldId id="258" r:id="rId27"/>
    <p:sldId id="259" r:id="rId28"/>
    <p:sldId id="260" r:id="rId29"/>
    <p:sldId id="261" r:id="rId30"/>
    <p:sldId id="262" r:id="rId31"/>
    <p:sldId id="263" r:id="rId32"/>
    <p:sldId id="264" r:id="rId33"/>
    <p:sldId id="265" r:id="rId34"/>
    <p:sldId id="26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" Target="slides/slide1.xml"/><Relationship Id="rId26" Type="http://schemas.openxmlformats.org/officeDocument/2006/relationships/slide" Target="slides/slide2.xml"/><Relationship Id="rId27" Type="http://schemas.openxmlformats.org/officeDocument/2006/relationships/slide" Target="slides/slide3.xml"/><Relationship Id="rId28" Type="http://schemas.openxmlformats.org/officeDocument/2006/relationships/slide" Target="slides/slide4.xml"/><Relationship Id="rId29" Type="http://schemas.openxmlformats.org/officeDocument/2006/relationships/slide" Target="slides/slide5.xml"/><Relationship Id="rId30" Type="http://schemas.openxmlformats.org/officeDocument/2006/relationships/slide" Target="slides/slide6.xml"/><Relationship Id="rId31" Type="http://schemas.openxmlformats.org/officeDocument/2006/relationships/slide" Target="slides/slide7.xml"/><Relationship Id="rId32" Type="http://schemas.openxmlformats.org/officeDocument/2006/relationships/slide" Target="slides/slide8.xml"/><Relationship Id="rId33" Type="http://schemas.openxmlformats.org/officeDocument/2006/relationships/slide" Target="slides/slide9.xml"/><Relationship Id="rId34" Type="http://schemas.openxmlformats.org/officeDocument/2006/relationships/slide" Target="slides/slide10.xml"/><Relationship Id="rId35" Type="http://schemas.openxmlformats.org/officeDocument/2006/relationships/slide" Target="slides/slide11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A45A8-238A-41D5-A06A-7F0A61E07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B58F1-1043-4B28-A5ED-4A58EBCA5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5E42CC-D83C-42AD-9DC7-97BA0403D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5EFACF-0761-4008-82C6-1EAE76135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223DC5-31F6-4D6A-9AA7-427A5B2BE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472738-B8CC-4157-86C5-2987FC6CD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FB341D-4542-47B2-965F-D4D185ED8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F8245D-B752-4FEB-A259-1CB12F575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F536F0-CF0F-43BB-B914-3D018C0A3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FCB32E-02E2-4860-A33B-29D0B6205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25DBC6-8401-4273-A688-7D6C7B33A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1F4F3F-D790-4596-AEC3-99B03C4F7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240A7-234C-49D9-BDB6-08EF4CC40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8FFFA7-4C87-4AF6-9CDD-ED6CEEB00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FF9BB5-A7AF-4C6F-9FB6-81ADFBFCC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C53C87-1491-4BCE-8E29-2F014BBD5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6FFE03-D076-4CAC-8ED3-A9D721C23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7ECAC9-17C1-47D0-82A8-79415B083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03C3B3-21FB-4B27-9CDF-A2C80A978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5F7677-F583-43C8-B0BD-0D42DD5A6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9BB207-DAF1-4848-9071-A51F803A4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18964B-A614-4325-A6FA-73224CFF5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C03B4F-D455-4861-90D7-398AD7A61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28787-5EF4-4B81-874F-F2B38E3BF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596BCD-174A-4AF0-92C4-9423255CD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695A1B-A5F2-4AB3-846A-685D08BA1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1873DB-BDC3-4E1A-AEDA-BB83C7B49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4C867F-A8F9-4A8D-97F0-8ED0F9FE4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8B5B18-95C0-4785-80CD-89F4D9ADE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9135F9-2321-4DB1-99E3-208E4B925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DF8225-A1D9-4670-8AC5-7C212BD59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E1EC0E-C42B-4F42-82C1-78BE79A5C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C7CB20-BE50-4626-A003-3B931BE01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AD320E-0C66-4805-B934-DB3140BBC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44903-7CF8-4153-857B-26229CD52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389D6A-74A0-4785-8713-7EBF388BC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8E419B-EED5-410C-BFCD-9947E1644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E5F334-82DB-4BE9-9290-CAF502DF1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2BA204-894D-4A1C-9872-177459DFA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7D97DD-EF3A-493C-BBAD-E0E2E9A99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5E96A7-4C34-4705-8F63-6FCD3EE56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81BDAB-EA40-4234-A390-DD273490F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174D7C-D1E3-4EF8-934F-E70D0D373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46BA37-4B0A-4EA2-9321-3593FE9A8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4A7DCD-9365-4CC8-BF5C-C818B49AF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93E8D-6785-4078-9109-0A2BB025C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EFBDA9-C5BA-4F81-A24C-C5B519514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96E039-5B24-44D0-A2B6-DD0DFCBFA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062E77-7BB9-4C88-A688-5530AC40A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F68B5C-F0ED-4503-95A7-D74A3FBB9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B54F10-AA79-487F-A877-8188FBF9D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589232D-E7B6-4A35-A553-74122AA4C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68F442A-90B0-4E66-8087-B4715933F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B1283E1-2EBC-4AA4-A517-70D1391CB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9758825-14E5-4A20-BA93-D77E5AA5B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8315507-0323-47EE-A4A6-74BC1F053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9962E-3119-4EA3-9B30-89ACFF29D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CEC48BF-66D4-4C7E-9C25-6633E0894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157D72C-D25B-408D-A58B-8F39BB041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918E2DB-AA7C-4528-AB88-E5BB83EE1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05EDCF3-F834-432E-B0EA-E61771E88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C641EA4-1712-4314-BE54-63E25EBAF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27292BF-2F35-4CF2-8ADA-B95D5119A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61407BD-8CE1-4A2F-9E2D-FDA032149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08F9301-2B97-4506-B983-B5EA267F7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6714231-DB64-41DC-B00E-041B72652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0C37214-CFF6-4B24-95DE-FA4EC7EE0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79A6B-05C2-43BC-AC77-FC927F9A0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7A0497D-B2FE-44FF-A622-7DF24E7DC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0AE4425-060D-4DE3-8B0B-07430A274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0C1D904-9E6B-4D2F-9075-D2023103D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F5EB244-7003-415A-AC0B-1D113E1BB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A1E86E5-DD1B-4A39-B62A-B39535A49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F200AFF-C285-4CE5-8FE1-6DE0AAC39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B6F2921-9CA9-4AC7-86BD-CEBE7532F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90A5278-3260-4C10-9790-981A9DDAE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E79C88F-C758-48DE-92D9-13A71C36C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3EEAC22-226A-4846-9817-E02087EE1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A6166-9F56-4237-BECD-CBF5D09FD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7D7E046-CAD5-44DE-AA2A-C8C5ACDA8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FB36A1C-0F44-4702-8855-47EED132D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8E5F013-DDB0-4035-8E11-C8524F234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F56CD6C-A568-4D5B-A457-40592072D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D1D3DEC-7563-401D-AAB5-31CF738FD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61DC639-E13C-4403-BA8A-62806D04F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3C8D95A-70CB-4711-B9EF-6CE04C3E6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75C3C6F-8375-4F6E-9A44-943D8DAE7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111B9B3-3E70-4706-AFFC-8787F7805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26DAC38-6A0E-4117-B8FA-4CE9AB5D9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5239F-BD6F-4EAA-816F-95F8E541F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6AE5549-1141-49FF-A009-B7551F495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AB168C8-5A03-4C96-8154-CBAAD3BF8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FC2E642-3C32-4277-9108-CC423BE8E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81FA4E8-5183-4527-A4EC-8C1D915CD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F86B7F9-CBAF-4548-A3EE-E3CC6109F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178907A-2AB1-4F7E-8462-B91A1B358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A8094A1-A180-45AA-A10B-5BB949D6D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198ADD5-DEB6-49EA-B947-1600C255C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873B943-A67C-4FFA-9671-203812595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1FDEAD1-CB4F-4668-8724-389F36F33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CEA19-62AA-41B0-95FF-5D7DBB84E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A36DB19-AF0E-434B-A4E5-7198E5F97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2CDCB05-D7E9-4867-9B5A-1F8E6CFBC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47D352B-EE1D-4E90-9390-7006D2DAD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1CE9487-24C1-4294-B731-CAC2C056E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740AA32-4E19-4127-B1AA-FD185B742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2C75EA4-4718-411D-AF4F-F6EE84B39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CE3E17B-8AE0-49B0-BB82-5F275E89C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CC9BBF6-32FA-4885-BEB8-E7A3EE90C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4D82180-60F4-402D-BD71-0D8D98CBF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2CD46AB-9392-4B2E-AE04-7B336C4EF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A908A-869B-499B-9507-0044F8AD2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A0CF1-B8BC-4A55-AC6B-2D8C76ADF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C287FE3-F799-43B3-A9A4-8FB85CA00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4DBB09D-475C-4455-BAB3-AD3AA701B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927A43B-F882-4727-8A96-7B4F269D5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4AFFEA1-7FEB-4304-A9EE-AB6C1C40A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3D80292-325A-4BC7-A48F-B0AFCAF88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830E564-B87A-40E0-A17B-60A2CE3BE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D42AFEC-10C3-4AB7-9461-E89BC3420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34DCC94-9537-4DBE-AD98-963A2947B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C5730ED-82A9-42C0-935E-5FA23A4B8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B37A628-C11F-4400-AE75-D1728AFB9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5F424-6A35-42E6-8DF0-E1C7A3AF9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F5188FF-5CDD-4DD6-B10D-A390D28AC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45FAB59-9ABD-46AE-A24A-D3C308DD5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644E8BF-D43B-45D2-B234-7CDBE7D5E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0C8D612-5887-48A2-A263-AC700CD58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CA889A0-FDB1-4C03-A29E-5B2107676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32FF387-1457-434C-9C92-8A47E2F9A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898D44E-E554-422F-9F44-4B611F1E5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6DA2E11-8E77-4483-9B4C-282325840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815FC61-3797-40C7-B60E-9105B0468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D9610CA-3F22-4D85-840D-D1EFABFC4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25E01-C041-43CC-A5F1-FA1AAD83B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7F3EC25-E531-4FA3-8DFA-BFC46CA11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121799A-9FC3-4421-B6B2-C1DFE3E5C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AB2CD52-7FF4-4F82-9E9A-315D55C80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E6997B5-7473-4961-9B5C-3B26C59F7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0D34608-11FC-40FB-98E9-926ED4E3A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7830120-9BFE-4AB9-9690-D52B432B1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935B610-C9FF-456D-85C8-BBEA0A639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BB40AF9-DEB7-4AE9-B116-12E3CE73B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A17742C-FC5B-4D12-9A50-39BCE702F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B4B2B62-B8DC-4CBE-A08B-9EE62B38B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7E676-7452-4398-995E-19DD9BC7C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1C36F09-5241-4C42-9378-0FEE4C344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3EEAC30-1816-481F-888F-535AADFBB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9AACA05-8295-4050-803A-A9EFFA915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A3CA01E-0C32-4BCC-B04A-A8843B2BB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F003BE6-620C-4415-A682-18F08DB9D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CECE096-6D27-4387-8012-C79896208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22F56A9-6EDA-4806-BFAC-12C417960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4C24947-E625-4418-A02F-D335904FF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D64A80C-76A6-47BA-A5B3-1CBE1F7C3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FBC8887-F2D5-4A5B-8A95-5F471177B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25B6E-5AE0-474B-A52E-7C28482DA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4B80170-FE91-4B01-9CDA-945DE1E25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779D9AD-2A17-4CDC-9C63-6DBD64425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F420F23-DB8D-4A19-B4DD-DF24AB07E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4B958DA-C5E2-450D-925D-FEF80CF68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1814ADF-AE42-4630-874C-FBD61F675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37B4E6C-0A38-4574-9019-82EA9A6B2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6A31817-0299-4D0F-B377-6B7B5F76B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F00881F-8E1D-415A-AD3D-1930A1B52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6E9E7FA-4010-46EF-8706-0084926E4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8539EDE-F811-4F3F-983A-2115B40A5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3E8773-DD01-4A2D-94AB-03059C382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58A204F-BBF3-4F2F-B6DB-57E0996E4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6F112F7-4F65-4D5E-BA85-7223C6514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1FCB4A9-697E-4622-B21E-30F051B3B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470CF1B-E16A-41A3-8AE2-726D4ABB2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0B49015-5743-4F6B-BAEE-F2EBE7F40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DFFA6B0-4915-43E0-869D-BE58D04F0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D835A86-47E5-4EDC-8945-B614FCEA7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1C364EE-10BB-4E71-977D-0104F32E6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ACDD559-1299-4691-9FF3-F2863FEEB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D59504C-E472-430F-B856-632CB4182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1336D6-56EB-4D55-8CE8-B1ADBAA91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8A7738C-1616-422F-813E-FF0A3856E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BBE08F6-97AF-4385-A848-8579183D9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D5E11EA-268C-4A6D-ACD6-2A181DA13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1C04AC6-F008-450D-B61E-8B369A7A2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CA1FC46-CC7D-4F01-A992-B363AC8CD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09A181E-3F82-4392-9FF2-B181A984E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CEBC3B0-B153-4687-89BB-BC0484C7B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0305F07-3765-48D2-A9EA-28A95F044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C19E14C-9DCF-4DA7-BA7E-1582D0C8C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70832E2-AC3C-420E-BF97-5C5D909CF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5A6EAC-EA90-4E6E-A357-FF743B681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5F39799-422A-4F3A-BD9F-25671350D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54614BA-1094-4529-93F3-9B40C0BD6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27DB696-37C2-4E31-B8F3-D79AAFC0D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C5364C4-94DD-4CAA-AB28-8B2088BF0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D5BF543-9789-423B-9CE6-55FE15660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4564932-00E5-4D7E-A9F5-AD18ACCA2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434CA3D-A7C5-483E-AE5C-41EAEDB60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61D36E-D8D8-474C-A4F0-122F30F2F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46A491-6B0B-4073-95D9-92EBC9707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9ECEE-58CE-4F06-94FC-0802751C2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9C2DC5-7DBD-4578-8F9A-B59D6FF6F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AA231C-D034-41A1-A1DF-8DC121798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66BF75-08F5-4EC4-9609-2337D7BEE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517C25-F220-470D-8A5B-0745E0786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48C3C2-149D-400B-B285-5882B4671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4A41A6-213F-4A75-B1E3-719598613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C015D5-F422-4282-B2FB-83293082C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C3F731-C3DD-41F7-B850-D5B2CD3CD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5853AB-8E6C-4ED5-8F9D-510E8DB6F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098BFF-1228-419E-AB28-B0DB4D9D0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F9B9F-9C15-4A3A-BCFF-60E39D29E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C4495C-E0E6-485C-B7F2-7AB55B725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D9C416-935F-4C75-BBC1-C1599C53B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EBA188-365A-4E06-A274-5B2F76332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AB7531-39D5-4E75-9F7B-BF448BB90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E6D61F-DD1E-4986-A745-75201724D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42474E-A260-45AA-8376-ACEE06634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BCA72A-34C9-4C65-BEF2-59303C955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8FF720-CC28-40BD-B45F-0FFB58B1D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30D011-AB76-4A9D-9A53-71DEFACFF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1C7A76-B383-43AE-BB96-D5A63EA54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4903E-F8DF-4401-AC1E-828F6E915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E0FB59-6809-4E01-AE50-A594D12A4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D64895-9A20-43F4-AE73-A0EAD0E62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1D87D9-172C-4D3C-BA83-EE979F4E3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D5A17F-D658-454D-BD60-2A426C79A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DA8A52-D28E-4E73-A9EC-C45546B67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71549F-FF9F-48D9-9800-DF5625586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DCCDA2-543D-4F4E-A7DE-19B13E0B1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61ACF6-C961-43A5-AD8A-AC3B82CA6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BDD2EE-62E6-47E9-89B7-B33B1FB35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8F291F-32C3-4F27-9033-FA0942423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36736-478B-4676-82F2-C5C9CE276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9B2BEA-AEE5-46B0-92DC-3B0F5FBC1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3E4706-FDCE-4E12-82EF-66C2BC16D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F61FC9-11A3-47AD-8137-40CF4FCB1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2B4071-60B3-4AF4-B746-BA3193176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13C6A5-247A-46F1-BC2D-B683DDEA9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01E261-0BEA-4F11-896B-BAC1C5F77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C97BF4-8BEB-4A4D-9032-B69454AF7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6C1132-EE35-4035-9410-F5C0A7A81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1974FB-B48F-4B65-BF85-EA9213910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E39654-8B98-4F05-8E3D-86EB1A8DD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62CAA-A096-4824-A99C-223B53F92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4430A9-C12A-455E-8E41-97670AD9A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E59ACE-B06B-44A2-A418-64B2C1B0D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D6E5F7-DF2B-451D-9F65-C31A76C1B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2026B9-D162-4D9D-BC49-B0B08E048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4B9933-F882-4925-99A7-0AB80F506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80760E-30B4-4322-9B39-AB07E3547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D7BFFF-CA42-40D0-9D5C-9A29B2051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4FD9C6-C4E5-41C3-8EB9-019D69258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8FF0AD-5828-45B1-9805-1C7E4A126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818846-5CE3-4EBA-8D3E-DE0EB5354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D1697-7E95-45F1-A06B-6E0CCF9B4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7AB2CB-1B3C-49D2-8552-C16E22F4F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A5DF8E-2001-4724-95A7-0DFA134B6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14707F-9CCE-4E8E-9AD2-B766CA878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492D94-BACB-4702-8E3E-D6440D265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F07B1E-E0AD-42D4-93DA-F87E675CC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C77CCB-CD8A-4FAC-AB6E-4920CFF8F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874B3E-AE32-4273-B1A6-7C86A8115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B4BEB1-151F-4992-A3E9-493D24D6E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2EA616-15F6-4356-B587-D9503DEF8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8701EF-FE28-41AC-8A24-C7518EB95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4CD7C-A525-46AC-947B-AB839A8FE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B68DFD-B033-4435-823C-EA9856B10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4DD37C-DB2B-4B5C-BF8E-BFDAF8AF0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DFE140-A5BA-40DC-BC43-65535150E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BD93B6-6B88-4094-8F88-F8CEE6DCD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C4C142-B3F2-46FE-881B-6DDE4A2A8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5CC9D2-9CDD-4C6F-AAF9-E603F269B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2F70D0-5855-490F-8467-C5B47E18A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5E9401-D034-4FF7-BC90-CCBE407FF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B62772-CABF-4F59-B972-166FC4D74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896037-E56E-4C82-9EFE-6578CFEBC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310EA-7F58-4F24-B3E6-19E7F3D9483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88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F1F84-9DC8-430B-86C4-BD4DC95D32B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58512-BA97-4131-81F7-22320E91E9C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432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93BEA-34FF-4B0A-99A2-DEBC7F9E280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140E9-F2AE-47F5-9FFB-E2512C48AB4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117D4-A586-4174-9BF4-DBB6B2CAF0F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71B51-B4F6-410B-9DC6-B718394DC1E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7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18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C8003-8E81-4D5D-AD0C-8C9ED461489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E23CF-A8F5-4B50-977E-1E444F9A6D3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6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9A55B-9777-4F43-B6DA-4C88F0E431D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03A69-8F7B-45CB-BB4D-FB97C81B353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5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06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D703B-EA03-4CDE-A389-16E8B709F2C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02D33-644E-4355-AE8F-1C3505D4EBB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9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650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41953-BE5D-4AAC-B413-9163112CAD9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F8657-4E9D-4A70-AD0C-4AA17ECA1C3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3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94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5F535-CC56-487A-86E5-AFE63FDC1E2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FBCC0-127C-464C-8A2A-306171E052F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8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3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FA253-5EF4-4673-A9D1-4963FA72529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039A6-8868-48F4-BC8F-E4E67A16C5B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3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B715E-2A1C-4B5F-A513-F2155B7C5D0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3E9AB-A6ED-4D49-BF3B-E4B83BB96C4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6CF68-DA83-447E-A67F-4F7882363496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7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28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3CA4B-BC1B-4AE1-868B-01BAB377BEA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D3AB2-1F96-41AB-918B-3A815E3B1CD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2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73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EE722-C1C7-4EF0-8FA7-94851012774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626A8-0365-4F4E-8EFA-9860B0580F9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918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A9033-692E-484C-84BA-BECCFA048B3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99E6A-F5BC-44BE-AAA0-C5FA587A362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2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963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 type="dt" idx="6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300BE-B61F-40B3-AD51-2A2559D2651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PlaceHolder 4"/>
          <p:cNvSpPr>
            <a:spLocks noGrp="1"/>
          </p:cNvSpPr>
          <p:nvPr>
            <p:ph type="ftr" idx="6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5"/>
          <p:cNvSpPr>
            <a:spLocks noGrp="1"/>
          </p:cNvSpPr>
          <p:nvPr>
            <p:ph type="sldNum" idx="6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30AAB-DEF7-4460-8EBA-A982F724CDC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04214-764D-449A-814A-39B2E4D7E7C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FBCF4-1CED-4A9D-B32F-EE12B23D29E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4D3D2-AD6D-45E7-8C5C-C8C5FA809B4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68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5BED2-C701-49D7-BB4C-01D03EC3ACF7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212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A4C24-D50B-41F9-93EE-52C8DC82528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89A4B-8FFB-4E89-856E-228EE0CDE4D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56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FED81-1A1A-448F-BEB0-BEB7E306747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2E856-9FB6-405C-B2F8-E6A442D49E6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300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651DE-D160-4838-B406-6712B99BF46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0C1E9-D060-4977-83E4-637ED579292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CB95A-40D7-4AFC-B446-7FE077BD910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FC266-BFD1-4080-84D5-82B7416788E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5" name="图片 1" descr=""/>
          <p:cNvPicPr/>
          <p:nvPr/>
        </p:nvPicPr>
        <p:blipFill>
          <a:blip r:embed="rId1"/>
          <a:stretch/>
        </p:blipFill>
        <p:spPr>
          <a:xfrm>
            <a:off x="1166760" y="2509920"/>
            <a:ext cx="6810480" cy="18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4" name="图片 1" descr=""/>
          <p:cNvPicPr/>
          <p:nvPr/>
        </p:nvPicPr>
        <p:blipFill>
          <a:blip r:embed="rId1"/>
          <a:stretch/>
        </p:blipFill>
        <p:spPr>
          <a:xfrm>
            <a:off x="519120" y="1433520"/>
            <a:ext cx="8105760" cy="3990960"/>
          </a:xfrm>
          <a:prstGeom prst="rect">
            <a:avLst/>
          </a:prstGeom>
          <a:ln w="0">
            <a:noFill/>
          </a:ln>
        </p:spPr>
      </p:pic>
      <p:pic>
        <p:nvPicPr>
          <p:cNvPr id="1055" name="Picture 1" descr=""/>
          <p:cNvPicPr/>
          <p:nvPr/>
        </p:nvPicPr>
        <p:blipFill>
          <a:blip r:embed="rId2"/>
          <a:stretch/>
        </p:blipFill>
        <p:spPr>
          <a:xfrm>
            <a:off x="971640" y="2637000"/>
            <a:ext cx="5832360" cy="447480"/>
          </a:xfrm>
          <a:prstGeom prst="rect">
            <a:avLst/>
          </a:prstGeom>
          <a:ln w="0">
            <a:noFill/>
          </a:ln>
        </p:spPr>
      </p:pic>
      <p:pic>
        <p:nvPicPr>
          <p:cNvPr id="1056" name="Picture 1" descr=""/>
          <p:cNvPicPr/>
          <p:nvPr/>
        </p:nvPicPr>
        <p:blipFill>
          <a:blip r:embed="rId3"/>
          <a:stretch/>
        </p:blipFill>
        <p:spPr>
          <a:xfrm>
            <a:off x="1042920" y="3270240"/>
            <a:ext cx="5832720" cy="447840"/>
          </a:xfrm>
          <a:prstGeom prst="rect">
            <a:avLst/>
          </a:prstGeom>
          <a:ln w="0">
            <a:noFill/>
          </a:ln>
        </p:spPr>
      </p:pic>
      <p:pic>
        <p:nvPicPr>
          <p:cNvPr id="1057" name="Picture 1" descr=""/>
          <p:cNvPicPr/>
          <p:nvPr/>
        </p:nvPicPr>
        <p:blipFill>
          <a:blip r:embed="rId4"/>
          <a:stretch/>
        </p:blipFill>
        <p:spPr>
          <a:xfrm>
            <a:off x="1042920" y="3803760"/>
            <a:ext cx="5832720" cy="447480"/>
          </a:xfrm>
          <a:prstGeom prst="rect">
            <a:avLst/>
          </a:prstGeom>
          <a:ln w="0">
            <a:noFill/>
          </a:ln>
        </p:spPr>
      </p:pic>
      <p:pic>
        <p:nvPicPr>
          <p:cNvPr id="1058" name="Picture 1" descr=""/>
          <p:cNvPicPr/>
          <p:nvPr/>
        </p:nvPicPr>
        <p:blipFill>
          <a:blip r:embed="rId5"/>
          <a:stretch/>
        </p:blipFill>
        <p:spPr>
          <a:xfrm>
            <a:off x="971640" y="4437000"/>
            <a:ext cx="583236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0" dur="10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5" dur="10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0" dur="10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5" dur="10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9" name="图片 1" descr=""/>
          <p:cNvPicPr/>
          <p:nvPr/>
        </p:nvPicPr>
        <p:blipFill>
          <a:blip r:embed="rId1"/>
          <a:stretch/>
        </p:blipFill>
        <p:spPr>
          <a:xfrm>
            <a:off x="561960" y="1247760"/>
            <a:ext cx="8020080" cy="4362480"/>
          </a:xfrm>
          <a:prstGeom prst="rect">
            <a:avLst/>
          </a:prstGeom>
          <a:ln w="0">
            <a:noFill/>
          </a:ln>
        </p:spPr>
      </p:pic>
      <p:pic>
        <p:nvPicPr>
          <p:cNvPr id="1060" name="Picture 1" descr=""/>
          <p:cNvPicPr/>
          <p:nvPr/>
        </p:nvPicPr>
        <p:blipFill>
          <a:blip r:embed="rId2"/>
          <a:stretch/>
        </p:blipFill>
        <p:spPr>
          <a:xfrm>
            <a:off x="1187280" y="2536920"/>
            <a:ext cx="5545440" cy="447480"/>
          </a:xfrm>
          <a:prstGeom prst="rect">
            <a:avLst/>
          </a:prstGeom>
          <a:ln w="0">
            <a:noFill/>
          </a:ln>
        </p:spPr>
      </p:pic>
      <p:pic>
        <p:nvPicPr>
          <p:cNvPr id="1061" name="Picture 1" descr=""/>
          <p:cNvPicPr/>
          <p:nvPr/>
        </p:nvPicPr>
        <p:blipFill>
          <a:blip r:embed="rId3"/>
          <a:stretch/>
        </p:blipFill>
        <p:spPr>
          <a:xfrm>
            <a:off x="1187280" y="3141720"/>
            <a:ext cx="5545440" cy="447480"/>
          </a:xfrm>
          <a:prstGeom prst="rect">
            <a:avLst/>
          </a:prstGeom>
          <a:ln w="0">
            <a:noFill/>
          </a:ln>
        </p:spPr>
      </p:pic>
      <p:pic>
        <p:nvPicPr>
          <p:cNvPr id="1062" name="Picture 1" descr=""/>
          <p:cNvPicPr/>
          <p:nvPr/>
        </p:nvPicPr>
        <p:blipFill>
          <a:blip r:embed="rId4"/>
          <a:stretch/>
        </p:blipFill>
        <p:spPr>
          <a:xfrm>
            <a:off x="1187280" y="3716280"/>
            <a:ext cx="5545440" cy="447840"/>
          </a:xfrm>
          <a:prstGeom prst="rect">
            <a:avLst/>
          </a:prstGeom>
          <a:ln w="0">
            <a:noFill/>
          </a:ln>
        </p:spPr>
      </p:pic>
      <p:pic>
        <p:nvPicPr>
          <p:cNvPr id="1063" name="Picture 1" descr=""/>
          <p:cNvPicPr/>
          <p:nvPr/>
        </p:nvPicPr>
        <p:blipFill>
          <a:blip r:embed="rId5"/>
          <a:stretch/>
        </p:blipFill>
        <p:spPr>
          <a:xfrm>
            <a:off x="1187280" y="4292640"/>
            <a:ext cx="5545440" cy="447480"/>
          </a:xfrm>
          <a:prstGeom prst="rect">
            <a:avLst/>
          </a:prstGeom>
          <a:ln w="0">
            <a:noFill/>
          </a:ln>
        </p:spPr>
      </p:pic>
      <p:pic>
        <p:nvPicPr>
          <p:cNvPr id="1064" name="Picture 1" descr=""/>
          <p:cNvPicPr/>
          <p:nvPr/>
        </p:nvPicPr>
        <p:blipFill>
          <a:blip r:embed="rId6"/>
          <a:stretch/>
        </p:blipFill>
        <p:spPr>
          <a:xfrm>
            <a:off x="1187280" y="4869000"/>
            <a:ext cx="554544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2" dur="10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7" dur="10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2" dur="10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7" dur="10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2" dur="10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6" name="图片 1" descr=""/>
          <p:cNvPicPr/>
          <p:nvPr/>
        </p:nvPicPr>
        <p:blipFill>
          <a:blip r:embed="rId1"/>
          <a:stretch/>
        </p:blipFill>
        <p:spPr>
          <a:xfrm>
            <a:off x="209520" y="873000"/>
            <a:ext cx="8724960" cy="5248440"/>
          </a:xfrm>
          <a:prstGeom prst="rect">
            <a:avLst/>
          </a:prstGeom>
          <a:ln w="0">
            <a:noFill/>
          </a:ln>
        </p:spPr>
      </p:pic>
      <p:pic>
        <p:nvPicPr>
          <p:cNvPr id="1007" name="Picture 1" descr=""/>
          <p:cNvPicPr/>
          <p:nvPr/>
        </p:nvPicPr>
        <p:blipFill>
          <a:blip r:embed="rId2"/>
          <a:stretch/>
        </p:blipFill>
        <p:spPr>
          <a:xfrm>
            <a:off x="3233880" y="1930320"/>
            <a:ext cx="431640" cy="384120"/>
          </a:xfrm>
          <a:prstGeom prst="rect">
            <a:avLst/>
          </a:prstGeom>
          <a:ln w="0">
            <a:noFill/>
          </a:ln>
        </p:spPr>
      </p:pic>
      <p:pic>
        <p:nvPicPr>
          <p:cNvPr id="1008" name="Picture 1" descr=""/>
          <p:cNvPicPr/>
          <p:nvPr/>
        </p:nvPicPr>
        <p:blipFill>
          <a:blip r:embed="rId3"/>
          <a:stretch/>
        </p:blipFill>
        <p:spPr>
          <a:xfrm>
            <a:off x="7451640" y="1932120"/>
            <a:ext cx="432000" cy="384120"/>
          </a:xfrm>
          <a:prstGeom prst="rect">
            <a:avLst/>
          </a:prstGeom>
          <a:ln w="0">
            <a:noFill/>
          </a:ln>
        </p:spPr>
      </p:pic>
      <p:pic>
        <p:nvPicPr>
          <p:cNvPr id="1009" name="Picture 1" descr=""/>
          <p:cNvPicPr/>
          <p:nvPr/>
        </p:nvPicPr>
        <p:blipFill>
          <a:blip r:embed="rId4"/>
          <a:stretch/>
        </p:blipFill>
        <p:spPr>
          <a:xfrm>
            <a:off x="2771640" y="2795760"/>
            <a:ext cx="432000" cy="384120"/>
          </a:xfrm>
          <a:prstGeom prst="rect">
            <a:avLst/>
          </a:prstGeom>
          <a:ln w="0">
            <a:noFill/>
          </a:ln>
        </p:spPr>
      </p:pic>
      <p:pic>
        <p:nvPicPr>
          <p:cNvPr id="1010" name="Picture 1" descr=""/>
          <p:cNvPicPr/>
          <p:nvPr/>
        </p:nvPicPr>
        <p:blipFill>
          <a:blip r:embed="rId5"/>
          <a:stretch/>
        </p:blipFill>
        <p:spPr>
          <a:xfrm>
            <a:off x="7466040" y="2795760"/>
            <a:ext cx="431640" cy="384120"/>
          </a:xfrm>
          <a:prstGeom prst="rect">
            <a:avLst/>
          </a:prstGeom>
          <a:ln w="0">
            <a:noFill/>
          </a:ln>
        </p:spPr>
      </p:pic>
      <p:pic>
        <p:nvPicPr>
          <p:cNvPr id="1011" name="Picture 1" descr=""/>
          <p:cNvPicPr/>
          <p:nvPr/>
        </p:nvPicPr>
        <p:blipFill>
          <a:blip r:embed="rId6"/>
          <a:stretch/>
        </p:blipFill>
        <p:spPr>
          <a:xfrm>
            <a:off x="3132000" y="4321080"/>
            <a:ext cx="1511280" cy="447840"/>
          </a:xfrm>
          <a:prstGeom prst="rect">
            <a:avLst/>
          </a:prstGeom>
          <a:ln w="0">
            <a:noFill/>
          </a:ln>
        </p:spPr>
      </p:pic>
      <p:pic>
        <p:nvPicPr>
          <p:cNvPr id="1012" name="Picture 1" descr=""/>
          <p:cNvPicPr/>
          <p:nvPr/>
        </p:nvPicPr>
        <p:blipFill>
          <a:blip r:embed="rId7"/>
          <a:stretch/>
        </p:blipFill>
        <p:spPr>
          <a:xfrm>
            <a:off x="7632720" y="4321080"/>
            <a:ext cx="1260360" cy="447840"/>
          </a:xfrm>
          <a:prstGeom prst="rect">
            <a:avLst/>
          </a:prstGeom>
          <a:ln w="0">
            <a:noFill/>
          </a:ln>
        </p:spPr>
      </p:pic>
      <p:pic>
        <p:nvPicPr>
          <p:cNvPr id="1013" name="Picture 1" descr=""/>
          <p:cNvPicPr/>
          <p:nvPr/>
        </p:nvPicPr>
        <p:blipFill>
          <a:blip r:embed="rId8"/>
          <a:stretch/>
        </p:blipFill>
        <p:spPr>
          <a:xfrm>
            <a:off x="3635280" y="4998960"/>
            <a:ext cx="1441440" cy="447840"/>
          </a:xfrm>
          <a:prstGeom prst="rect">
            <a:avLst/>
          </a:prstGeom>
          <a:ln w="0">
            <a:noFill/>
          </a:ln>
        </p:spPr>
      </p:pic>
      <p:pic>
        <p:nvPicPr>
          <p:cNvPr id="1014" name="Picture 1" descr=""/>
          <p:cNvPicPr/>
          <p:nvPr/>
        </p:nvPicPr>
        <p:blipFill>
          <a:blip r:embed="rId9"/>
          <a:stretch/>
        </p:blipFill>
        <p:spPr>
          <a:xfrm>
            <a:off x="7596360" y="4956120"/>
            <a:ext cx="1260360" cy="447840"/>
          </a:xfrm>
          <a:prstGeom prst="rect">
            <a:avLst/>
          </a:prstGeom>
          <a:ln w="0">
            <a:noFill/>
          </a:ln>
        </p:spPr>
      </p:pic>
      <p:pic>
        <p:nvPicPr>
          <p:cNvPr id="1015" name="Picture 1" descr=""/>
          <p:cNvPicPr/>
          <p:nvPr/>
        </p:nvPicPr>
        <p:blipFill>
          <a:blip r:embed="rId10"/>
          <a:stretch/>
        </p:blipFill>
        <p:spPr>
          <a:xfrm>
            <a:off x="3635280" y="5589720"/>
            <a:ext cx="1441440" cy="447480"/>
          </a:xfrm>
          <a:prstGeom prst="rect">
            <a:avLst/>
          </a:prstGeom>
          <a:ln w="0">
            <a:noFill/>
          </a:ln>
        </p:spPr>
      </p:pic>
      <p:pic>
        <p:nvPicPr>
          <p:cNvPr id="1016" name="Picture 1" descr=""/>
          <p:cNvPicPr/>
          <p:nvPr/>
        </p:nvPicPr>
        <p:blipFill>
          <a:blip r:embed="rId11"/>
          <a:stretch/>
        </p:blipFill>
        <p:spPr>
          <a:xfrm>
            <a:off x="7596360" y="5603760"/>
            <a:ext cx="126036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0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10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1000"/>
                                        <p:tgtEl>
                                          <p:spTgt spid="10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10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1000"/>
                                        <p:tgtEl>
                                          <p:spTgt spid="10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" dur="10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" dur="1000"/>
                                        <p:tgtEl>
                                          <p:spTgt spid="10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1" dur="10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7" name="图片 1" descr=""/>
          <p:cNvPicPr/>
          <p:nvPr/>
        </p:nvPicPr>
        <p:blipFill>
          <a:blip r:embed="rId1"/>
          <a:stretch/>
        </p:blipFill>
        <p:spPr>
          <a:xfrm>
            <a:off x="266760" y="1123920"/>
            <a:ext cx="8610480" cy="4610160"/>
          </a:xfrm>
          <a:prstGeom prst="rect">
            <a:avLst/>
          </a:prstGeom>
          <a:ln w="0">
            <a:noFill/>
          </a:ln>
        </p:spPr>
      </p:pic>
      <p:pic>
        <p:nvPicPr>
          <p:cNvPr id="1018" name="Picture 1" descr=""/>
          <p:cNvPicPr/>
          <p:nvPr/>
        </p:nvPicPr>
        <p:blipFill>
          <a:blip r:embed="rId2"/>
          <a:stretch/>
        </p:blipFill>
        <p:spPr>
          <a:xfrm>
            <a:off x="1476360" y="2708280"/>
            <a:ext cx="2303640" cy="2952720"/>
          </a:xfrm>
          <a:prstGeom prst="rect">
            <a:avLst/>
          </a:prstGeom>
          <a:ln w="0">
            <a:noFill/>
          </a:ln>
        </p:spPr>
      </p:pic>
      <p:pic>
        <p:nvPicPr>
          <p:cNvPr id="1019" name="Picture 1" descr=""/>
          <p:cNvPicPr/>
          <p:nvPr/>
        </p:nvPicPr>
        <p:blipFill>
          <a:blip r:embed="rId3"/>
          <a:stretch/>
        </p:blipFill>
        <p:spPr>
          <a:xfrm>
            <a:off x="2843280" y="1944720"/>
            <a:ext cx="1368360" cy="447480"/>
          </a:xfrm>
          <a:prstGeom prst="rect">
            <a:avLst/>
          </a:prstGeom>
          <a:ln w="0">
            <a:noFill/>
          </a:ln>
        </p:spPr>
      </p:pic>
      <p:pic>
        <p:nvPicPr>
          <p:cNvPr id="1020" name="Picture 1" descr=""/>
          <p:cNvPicPr/>
          <p:nvPr/>
        </p:nvPicPr>
        <p:blipFill>
          <a:blip r:embed="rId4"/>
          <a:stretch/>
        </p:blipFill>
        <p:spPr>
          <a:xfrm>
            <a:off x="5651640" y="2722680"/>
            <a:ext cx="2449440" cy="2952720"/>
          </a:xfrm>
          <a:prstGeom prst="rect">
            <a:avLst/>
          </a:prstGeom>
          <a:ln w="0">
            <a:noFill/>
          </a:ln>
        </p:spPr>
      </p:pic>
      <p:pic>
        <p:nvPicPr>
          <p:cNvPr id="1021" name="Picture 1" descr=""/>
          <p:cNvPicPr/>
          <p:nvPr/>
        </p:nvPicPr>
        <p:blipFill>
          <a:blip r:embed="rId5"/>
          <a:stretch/>
        </p:blipFill>
        <p:spPr>
          <a:xfrm>
            <a:off x="7176960" y="1959120"/>
            <a:ext cx="157176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8" dur="1000"/>
                                        <p:tgtEl>
                                          <p:spTgt spid="10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3" dur="1000"/>
                                        <p:tgtEl>
                                          <p:spTgt spid="10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8" dur="1000"/>
                                        <p:tgtEl>
                                          <p:spTgt spid="10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3" dur="10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2" name="图片 1" descr=""/>
          <p:cNvPicPr/>
          <p:nvPr/>
        </p:nvPicPr>
        <p:blipFill>
          <a:blip r:embed="rId1"/>
          <a:stretch/>
        </p:blipFill>
        <p:spPr>
          <a:xfrm>
            <a:off x="495360" y="1504800"/>
            <a:ext cx="8153280" cy="3848400"/>
          </a:xfrm>
          <a:prstGeom prst="rect">
            <a:avLst/>
          </a:prstGeom>
          <a:ln w="0">
            <a:noFill/>
          </a:ln>
        </p:spPr>
      </p:pic>
      <p:pic>
        <p:nvPicPr>
          <p:cNvPr id="1023" name="Picture 1" descr=""/>
          <p:cNvPicPr/>
          <p:nvPr/>
        </p:nvPicPr>
        <p:blipFill>
          <a:blip r:embed="rId2"/>
          <a:stretch/>
        </p:blipFill>
        <p:spPr>
          <a:xfrm>
            <a:off x="1116000" y="2205000"/>
            <a:ext cx="2879640" cy="3240000"/>
          </a:xfrm>
          <a:prstGeom prst="rect">
            <a:avLst/>
          </a:prstGeom>
          <a:ln w="0">
            <a:noFill/>
          </a:ln>
        </p:spPr>
      </p:pic>
      <p:pic>
        <p:nvPicPr>
          <p:cNvPr id="1024" name="Picture 1" descr=""/>
          <p:cNvPicPr/>
          <p:nvPr/>
        </p:nvPicPr>
        <p:blipFill>
          <a:blip r:embed="rId3"/>
          <a:stretch/>
        </p:blipFill>
        <p:spPr>
          <a:xfrm>
            <a:off x="2843280" y="1557360"/>
            <a:ext cx="1584360" cy="447480"/>
          </a:xfrm>
          <a:prstGeom prst="rect">
            <a:avLst/>
          </a:prstGeom>
          <a:ln w="0">
            <a:noFill/>
          </a:ln>
        </p:spPr>
      </p:pic>
      <p:pic>
        <p:nvPicPr>
          <p:cNvPr id="1025" name="Picture 1" descr=""/>
          <p:cNvPicPr/>
          <p:nvPr/>
        </p:nvPicPr>
        <p:blipFill>
          <a:blip r:embed="rId4"/>
          <a:stretch/>
        </p:blipFill>
        <p:spPr>
          <a:xfrm>
            <a:off x="5133960" y="2205000"/>
            <a:ext cx="3254400" cy="3240000"/>
          </a:xfrm>
          <a:prstGeom prst="rect">
            <a:avLst/>
          </a:prstGeom>
          <a:ln w="0">
            <a:noFill/>
          </a:ln>
        </p:spPr>
      </p:pic>
      <p:pic>
        <p:nvPicPr>
          <p:cNvPr id="1026" name="Picture 1" descr=""/>
          <p:cNvPicPr/>
          <p:nvPr/>
        </p:nvPicPr>
        <p:blipFill>
          <a:blip r:embed="rId5"/>
          <a:stretch/>
        </p:blipFill>
        <p:spPr>
          <a:xfrm>
            <a:off x="6861240" y="1557360"/>
            <a:ext cx="158436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0" dur="1000"/>
                                        <p:tgtEl>
                                          <p:spTgt spid="10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5" dur="10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0" dur="10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5" dur="10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7" name="图片 1" descr=""/>
          <p:cNvPicPr/>
          <p:nvPr/>
        </p:nvPicPr>
        <p:blipFill>
          <a:blip r:embed="rId1"/>
          <a:stretch/>
        </p:blipFill>
        <p:spPr>
          <a:xfrm>
            <a:off x="276120" y="1538280"/>
            <a:ext cx="8591760" cy="3781440"/>
          </a:xfrm>
          <a:prstGeom prst="rect">
            <a:avLst/>
          </a:prstGeom>
          <a:ln w="0">
            <a:noFill/>
          </a:ln>
        </p:spPr>
      </p:pic>
      <p:pic>
        <p:nvPicPr>
          <p:cNvPr id="1028" name="Picture 1" descr=""/>
          <p:cNvPicPr/>
          <p:nvPr/>
        </p:nvPicPr>
        <p:blipFill>
          <a:blip r:embed="rId2"/>
          <a:stretch/>
        </p:blipFill>
        <p:spPr>
          <a:xfrm>
            <a:off x="971640" y="3068640"/>
            <a:ext cx="3744720" cy="44784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1" descr=""/>
          <p:cNvPicPr/>
          <p:nvPr/>
        </p:nvPicPr>
        <p:blipFill>
          <a:blip r:embed="rId3"/>
          <a:stretch/>
        </p:blipFill>
        <p:spPr>
          <a:xfrm>
            <a:off x="971640" y="3716280"/>
            <a:ext cx="3744720" cy="44784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1" descr=""/>
          <p:cNvPicPr/>
          <p:nvPr/>
        </p:nvPicPr>
        <p:blipFill>
          <a:blip r:embed="rId4"/>
          <a:stretch/>
        </p:blipFill>
        <p:spPr>
          <a:xfrm>
            <a:off x="900000" y="4321080"/>
            <a:ext cx="3745080" cy="44784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1" descr=""/>
          <p:cNvPicPr/>
          <p:nvPr/>
        </p:nvPicPr>
        <p:blipFill>
          <a:blip r:embed="rId5"/>
          <a:stretch/>
        </p:blipFill>
        <p:spPr>
          <a:xfrm>
            <a:off x="5048280" y="3068640"/>
            <a:ext cx="3744720" cy="44784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1" descr=""/>
          <p:cNvPicPr/>
          <p:nvPr/>
        </p:nvPicPr>
        <p:blipFill>
          <a:blip r:embed="rId6"/>
          <a:stretch/>
        </p:blipFill>
        <p:spPr>
          <a:xfrm>
            <a:off x="5048280" y="3716280"/>
            <a:ext cx="3744720" cy="447840"/>
          </a:xfrm>
          <a:prstGeom prst="rect">
            <a:avLst/>
          </a:prstGeom>
          <a:ln w="0">
            <a:noFill/>
          </a:ln>
        </p:spPr>
      </p:pic>
      <p:pic>
        <p:nvPicPr>
          <p:cNvPr id="1033" name="Picture 1" descr=""/>
          <p:cNvPicPr/>
          <p:nvPr/>
        </p:nvPicPr>
        <p:blipFill>
          <a:blip r:embed="rId7"/>
          <a:stretch/>
        </p:blipFill>
        <p:spPr>
          <a:xfrm>
            <a:off x="4976640" y="4321080"/>
            <a:ext cx="374508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2" dur="10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7" dur="10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2" dur="10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7" dur="10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2" dur="10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7" dur="10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4" name="图片 1" descr=""/>
          <p:cNvPicPr/>
          <p:nvPr/>
        </p:nvPicPr>
        <p:blipFill>
          <a:blip r:embed="rId1"/>
          <a:stretch/>
        </p:blipFill>
        <p:spPr>
          <a:xfrm>
            <a:off x="557280" y="1500120"/>
            <a:ext cx="8029440" cy="3857760"/>
          </a:xfrm>
          <a:prstGeom prst="rect">
            <a:avLst/>
          </a:prstGeom>
          <a:ln w="0">
            <a:noFill/>
          </a:ln>
        </p:spPr>
      </p:pic>
      <p:pic>
        <p:nvPicPr>
          <p:cNvPr id="1035" name="Picture 1" descr=""/>
          <p:cNvPicPr/>
          <p:nvPr/>
        </p:nvPicPr>
        <p:blipFill>
          <a:blip r:embed="rId2"/>
          <a:stretch/>
        </p:blipFill>
        <p:spPr>
          <a:xfrm>
            <a:off x="826920" y="2219400"/>
            <a:ext cx="3384720" cy="447480"/>
          </a:xfrm>
          <a:prstGeom prst="rect">
            <a:avLst/>
          </a:prstGeom>
          <a:ln w="0">
            <a:noFill/>
          </a:ln>
        </p:spPr>
      </p:pic>
      <p:pic>
        <p:nvPicPr>
          <p:cNvPr id="1036" name="Picture 1" descr=""/>
          <p:cNvPicPr/>
          <p:nvPr/>
        </p:nvPicPr>
        <p:blipFill>
          <a:blip r:embed="rId3"/>
          <a:stretch/>
        </p:blipFill>
        <p:spPr>
          <a:xfrm>
            <a:off x="826920" y="2852640"/>
            <a:ext cx="3384720" cy="447840"/>
          </a:xfrm>
          <a:prstGeom prst="rect">
            <a:avLst/>
          </a:prstGeom>
          <a:ln w="0">
            <a:noFill/>
          </a:ln>
        </p:spPr>
      </p:pic>
      <p:pic>
        <p:nvPicPr>
          <p:cNvPr id="1037" name="Picture 1" descr=""/>
          <p:cNvPicPr/>
          <p:nvPr/>
        </p:nvPicPr>
        <p:blipFill>
          <a:blip r:embed="rId4"/>
          <a:stretch/>
        </p:blipFill>
        <p:spPr>
          <a:xfrm>
            <a:off x="755640" y="3500280"/>
            <a:ext cx="3384720" cy="447840"/>
          </a:xfrm>
          <a:prstGeom prst="rect">
            <a:avLst/>
          </a:prstGeom>
          <a:ln w="0">
            <a:noFill/>
          </a:ln>
        </p:spPr>
      </p:pic>
      <p:pic>
        <p:nvPicPr>
          <p:cNvPr id="1038" name="Picture 1" descr=""/>
          <p:cNvPicPr/>
          <p:nvPr/>
        </p:nvPicPr>
        <p:blipFill>
          <a:blip r:embed="rId5"/>
          <a:stretch/>
        </p:blipFill>
        <p:spPr>
          <a:xfrm>
            <a:off x="755640" y="4149720"/>
            <a:ext cx="3384720" cy="447840"/>
          </a:xfrm>
          <a:prstGeom prst="rect">
            <a:avLst/>
          </a:prstGeom>
          <a:ln w="0">
            <a:noFill/>
          </a:ln>
        </p:spPr>
      </p:pic>
      <p:pic>
        <p:nvPicPr>
          <p:cNvPr id="1039" name="Picture 1" descr=""/>
          <p:cNvPicPr/>
          <p:nvPr/>
        </p:nvPicPr>
        <p:blipFill>
          <a:blip r:embed="rId6"/>
          <a:stretch/>
        </p:blipFill>
        <p:spPr>
          <a:xfrm>
            <a:off x="755640" y="4797360"/>
            <a:ext cx="3384720" cy="447840"/>
          </a:xfrm>
          <a:prstGeom prst="rect">
            <a:avLst/>
          </a:prstGeom>
          <a:ln w="0">
            <a:noFill/>
          </a:ln>
        </p:spPr>
      </p:pic>
      <p:pic>
        <p:nvPicPr>
          <p:cNvPr id="1040" name="Picture 1" descr=""/>
          <p:cNvPicPr/>
          <p:nvPr/>
        </p:nvPicPr>
        <p:blipFill>
          <a:blip r:embed="rId7"/>
          <a:stretch/>
        </p:blipFill>
        <p:spPr>
          <a:xfrm>
            <a:off x="4745160" y="2205000"/>
            <a:ext cx="4003560" cy="447840"/>
          </a:xfrm>
          <a:prstGeom prst="rect">
            <a:avLst/>
          </a:prstGeom>
          <a:ln w="0">
            <a:noFill/>
          </a:ln>
        </p:spPr>
      </p:pic>
      <p:pic>
        <p:nvPicPr>
          <p:cNvPr id="1041" name="Picture 1" descr=""/>
          <p:cNvPicPr/>
          <p:nvPr/>
        </p:nvPicPr>
        <p:blipFill>
          <a:blip r:embed="rId8"/>
          <a:stretch/>
        </p:blipFill>
        <p:spPr>
          <a:xfrm>
            <a:off x="4673520" y="2852640"/>
            <a:ext cx="4003920" cy="447840"/>
          </a:xfrm>
          <a:prstGeom prst="rect">
            <a:avLst/>
          </a:prstGeom>
          <a:ln w="0">
            <a:noFill/>
          </a:ln>
        </p:spPr>
      </p:pic>
      <p:pic>
        <p:nvPicPr>
          <p:cNvPr id="1042" name="Picture 1" descr=""/>
          <p:cNvPicPr/>
          <p:nvPr/>
        </p:nvPicPr>
        <p:blipFill>
          <a:blip r:embed="rId9"/>
          <a:stretch/>
        </p:blipFill>
        <p:spPr>
          <a:xfrm>
            <a:off x="4673520" y="3502080"/>
            <a:ext cx="4003920" cy="447480"/>
          </a:xfrm>
          <a:prstGeom prst="rect">
            <a:avLst/>
          </a:prstGeom>
          <a:ln w="0">
            <a:noFill/>
          </a:ln>
        </p:spPr>
      </p:pic>
      <p:pic>
        <p:nvPicPr>
          <p:cNvPr id="1043" name="Picture 1" descr=""/>
          <p:cNvPicPr/>
          <p:nvPr/>
        </p:nvPicPr>
        <p:blipFill>
          <a:blip r:embed="rId10"/>
          <a:stretch/>
        </p:blipFill>
        <p:spPr>
          <a:xfrm>
            <a:off x="4673520" y="4149720"/>
            <a:ext cx="400392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4" dur="10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9" dur="10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4" dur="10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9" dur="10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4" dur="10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9" dur="10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4" dur="10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9" dur="10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4" dur="10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4" name="图片 1" descr=""/>
          <p:cNvPicPr/>
          <p:nvPr/>
        </p:nvPicPr>
        <p:blipFill>
          <a:blip r:embed="rId1"/>
          <a:stretch/>
        </p:blipFill>
        <p:spPr>
          <a:xfrm>
            <a:off x="228600" y="1457280"/>
            <a:ext cx="8686800" cy="3943440"/>
          </a:xfrm>
          <a:prstGeom prst="rect">
            <a:avLst/>
          </a:prstGeom>
          <a:ln w="0">
            <a:noFill/>
          </a:ln>
        </p:spPr>
      </p:pic>
      <p:pic>
        <p:nvPicPr>
          <p:cNvPr id="1045" name="Picture 1" descr=""/>
          <p:cNvPicPr/>
          <p:nvPr/>
        </p:nvPicPr>
        <p:blipFill>
          <a:blip r:embed="rId2"/>
          <a:stretch/>
        </p:blipFill>
        <p:spPr>
          <a:xfrm>
            <a:off x="971640" y="3443400"/>
            <a:ext cx="5545080" cy="447480"/>
          </a:xfrm>
          <a:prstGeom prst="rect">
            <a:avLst/>
          </a:prstGeom>
          <a:ln w="0">
            <a:noFill/>
          </a:ln>
        </p:spPr>
      </p:pic>
      <p:pic>
        <p:nvPicPr>
          <p:cNvPr id="1046" name="Picture 1" descr=""/>
          <p:cNvPicPr/>
          <p:nvPr/>
        </p:nvPicPr>
        <p:blipFill>
          <a:blip r:embed="rId3"/>
          <a:stretch/>
        </p:blipFill>
        <p:spPr>
          <a:xfrm>
            <a:off x="900000" y="4005360"/>
            <a:ext cx="5545080" cy="447480"/>
          </a:xfrm>
          <a:prstGeom prst="rect">
            <a:avLst/>
          </a:prstGeom>
          <a:ln w="0">
            <a:noFill/>
          </a:ln>
        </p:spPr>
      </p:pic>
      <p:pic>
        <p:nvPicPr>
          <p:cNvPr id="1047" name="Picture 1" descr=""/>
          <p:cNvPicPr/>
          <p:nvPr/>
        </p:nvPicPr>
        <p:blipFill>
          <a:blip r:embed="rId4"/>
          <a:stretch/>
        </p:blipFill>
        <p:spPr>
          <a:xfrm>
            <a:off x="900000" y="4581360"/>
            <a:ext cx="554508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1" dur="10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6" dur="10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1" dur="10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8" name="图片 1" descr=""/>
          <p:cNvPicPr/>
          <p:nvPr/>
        </p:nvPicPr>
        <p:blipFill>
          <a:blip r:embed="rId1"/>
          <a:stretch/>
        </p:blipFill>
        <p:spPr>
          <a:xfrm>
            <a:off x="147600" y="1195560"/>
            <a:ext cx="8848800" cy="4466880"/>
          </a:xfrm>
          <a:prstGeom prst="rect">
            <a:avLst/>
          </a:prstGeom>
          <a:ln w="0">
            <a:noFill/>
          </a:ln>
        </p:spPr>
      </p:pic>
      <p:pic>
        <p:nvPicPr>
          <p:cNvPr id="1049" name="Picture 1" descr=""/>
          <p:cNvPicPr/>
          <p:nvPr/>
        </p:nvPicPr>
        <p:blipFill>
          <a:blip r:embed="rId2"/>
          <a:stretch/>
        </p:blipFill>
        <p:spPr>
          <a:xfrm>
            <a:off x="1116000" y="3298680"/>
            <a:ext cx="4176720" cy="447840"/>
          </a:xfrm>
          <a:prstGeom prst="rect">
            <a:avLst/>
          </a:prstGeom>
          <a:ln w="0">
            <a:noFill/>
          </a:ln>
        </p:spPr>
      </p:pic>
      <p:pic>
        <p:nvPicPr>
          <p:cNvPr id="1050" name="Picture 1" descr=""/>
          <p:cNvPicPr/>
          <p:nvPr/>
        </p:nvPicPr>
        <p:blipFill>
          <a:blip r:embed="rId3"/>
          <a:stretch/>
        </p:blipFill>
        <p:spPr>
          <a:xfrm>
            <a:off x="971640" y="3860640"/>
            <a:ext cx="4176720" cy="447840"/>
          </a:xfrm>
          <a:prstGeom prst="rect">
            <a:avLst/>
          </a:prstGeom>
          <a:ln w="0">
            <a:noFill/>
          </a:ln>
        </p:spPr>
      </p:pic>
      <p:pic>
        <p:nvPicPr>
          <p:cNvPr id="1051" name="Picture 1" descr=""/>
          <p:cNvPicPr/>
          <p:nvPr/>
        </p:nvPicPr>
        <p:blipFill>
          <a:blip r:embed="rId4"/>
          <a:stretch/>
        </p:blipFill>
        <p:spPr>
          <a:xfrm>
            <a:off x="1116000" y="4451400"/>
            <a:ext cx="4176720" cy="447480"/>
          </a:xfrm>
          <a:prstGeom prst="rect">
            <a:avLst/>
          </a:prstGeom>
          <a:ln w="0">
            <a:noFill/>
          </a:ln>
        </p:spPr>
      </p:pic>
      <p:pic>
        <p:nvPicPr>
          <p:cNvPr id="1052" name="Picture 1" descr=""/>
          <p:cNvPicPr/>
          <p:nvPr/>
        </p:nvPicPr>
        <p:blipFill>
          <a:blip r:embed="rId5"/>
          <a:stretch/>
        </p:blipFill>
        <p:spPr>
          <a:xfrm>
            <a:off x="826920" y="5070600"/>
            <a:ext cx="691380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8" dur="10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3" dur="10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8" dur="10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3" dur="10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3" name="图片 1" descr=""/>
          <p:cNvPicPr/>
          <p:nvPr/>
        </p:nvPicPr>
        <p:blipFill>
          <a:blip r:embed="rId1"/>
          <a:stretch/>
        </p:blipFill>
        <p:spPr>
          <a:xfrm>
            <a:off x="271440" y="824040"/>
            <a:ext cx="8601120" cy="52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20T09:43:42Z</dcterms:modified>
  <cp:revision>2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